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FCD-7256-4C06-BEFE-1AAD7756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338-E0DF-47AA-AFF2-7350BFE1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7C444-8013-4C8D-B9EA-113F68DE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B13C7-1A05-4E56-8278-365E14B1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31F83-3FF5-4314-8369-4695E86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BAA0C-BCAB-4FAF-9A58-BCC9C91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69645-5BE7-459B-A003-ED76C895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E4395-820B-44DF-87FF-F64DF44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8F16F-A9D7-43F0-AD7A-CD936BA5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BB01C-DCF6-4769-8C2D-C586BF6E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7D2A5-45E8-4030-AD6E-EC53AA29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4CF26-530C-4AA9-86E8-686A7959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EA0-FBAC-4439-99B0-CB53E4BA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05873-682F-4B17-9149-A366E210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F361B-2DEC-4080-BEFE-FF836A51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7F4A5-5C30-471B-A569-50B82640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F5132-A06A-4984-84FC-75B9686E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68D28-8E3A-45E3-8042-9FB751D8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46ACB-B27D-4719-9054-0A45CB3C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50FE2-A365-4C26-9D07-1835689F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59113-C181-4EBF-A317-4C469EBA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9AE94-ADA6-4958-B52F-40BDF53E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AD4B6-DABE-4E58-9723-EA69324D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28D-7A96-4EB5-AD8F-3E841D9B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BF814-B307-4120-9171-60525CAF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EA9AD-9F6D-4708-8634-97988337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0D333-F9EB-42F9-AE1E-44CCB04A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DF046-FB4A-4D76-A7E6-9EFFA21A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D1F82-C51E-4D82-A25C-5DA9159F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38522-3EAB-4DAE-ADE2-010137E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44B3B-3D85-469D-B397-F453ECA0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27E15-9AF8-44FD-8764-D690C749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5FA62-D9C3-411B-BE22-9FBA2A2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BB80F-C709-4D30-B69D-62F7F33A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A095-BAD4-484E-8FA1-26D6BEF6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A97C8-D458-4DBF-ADCF-3D0EF2BA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6CAE1-0B32-4A2E-8E27-DF56EF21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DD576-3EF6-4C34-8FA3-24DFB1C0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5B8F8-8C01-4D33-AC59-6F44B9E5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DA09E-24B0-4CC7-8F77-8F9499DA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4C263-0DCE-4539-8C8D-5C326B5F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4231C-EBD0-4D36-9730-3E290A5E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A0791-6768-41A5-8A6F-FEF76E52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12504-4C6D-4552-BE6C-6A85FD47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9759C-E47C-43FF-BAF3-A7AEE9E1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87DA-AEE3-4244-AB85-D52D4AD9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100AD-738B-4D13-AF24-5AF2A31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E78C9-E25F-499C-A315-71118E3C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6090B-5BED-4BA1-97E5-7BFBADF4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FAE4D-838F-4E9C-AD1B-FFD75703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42245-077C-4FD0-AAE0-401D1125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08176F-F025-4459-97FA-5E1FC74D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54E034-564D-4262-9B7D-06B876B1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6CF188-1366-4777-817E-18E6CB64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17F4EB-AA41-4900-B546-B86341A9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66EC8D-8E02-4383-899F-88932254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3F8C-A5CC-41D9-B852-81CE556E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9F7880-C761-4F6D-A349-751D7AC8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72C4CD-4DC0-443B-93A4-5A351827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6C6FEF-2ECE-4E2A-8365-15C5A9B8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E662C0-3261-4E46-BD5A-16A81580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54B23E-F272-4657-82BF-7E082D3E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C68A4C-5588-4902-948B-1313CF4D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3B0097-7035-4813-AA0F-127192F9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3D143-2E5E-4D7E-83C8-8EDE5545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905F7-8681-40E6-A376-AABEE65B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436C0-419A-40A2-B204-A7C145A5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EE3A-5882-47E0-9472-B689565E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311AD-7357-4876-BB4C-4D269324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E519F-B97F-4215-9F15-90CE27FE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DAC60-A4F7-4A3A-BFD8-91A95472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905B5-DDCE-4EEC-8E3D-E1FEF5C1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4A077-B1DF-4453-9FB2-3D08AE32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7393D-B28F-44E8-9672-BDE37DB5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E2B2C-1CC5-471C-A215-F3F7D7B6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4B389-82E5-40E7-A5B0-48CF711B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F4D72-5609-4819-B904-812B5E07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E458B-8D12-44BF-8FE3-B168CED1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89A4-C794-4B1B-9D33-C0469FD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07653-B789-470B-A0E6-60FFD5EC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83D8C-B227-4BE5-A1F5-DE2CC807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89198-41CD-41AE-9731-E2CD1086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EAC9A-415C-4CC8-95D9-48A92A7B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2EE07-A6A5-4BFD-B0D4-19F9497F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7563E-C6C8-4849-8525-AB8E6AD9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D7576-49E7-42C9-AE8A-C81CE26E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B74B9-E5F7-4FC7-B06A-97881FF9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5180B-67E4-404B-A1CE-2794B36F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75318-42B8-4683-AAC1-22349CAD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C47B-D6F8-4851-9254-D7200DEC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B2C30-A919-4E4B-82B3-06075A15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412E3-BAA4-40CF-8658-5428E2CC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B5C80-2C4C-42F1-B690-9C4AA231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A4BB4-BAA9-4306-92F5-E5D56589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484BE-EA6B-4A54-AF99-F2B72F19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224E4-5B84-4B8C-A000-FCC79341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CCE88-89B1-4AB0-B199-F83EC29B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FE5E9-77B3-48C3-ACA3-711302A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C1122-1FAB-4219-9849-3E19EF1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88F86-01C5-419F-BBD3-B458EA8B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A7DB-3078-4F08-8BA7-8451B930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D3881-E7FB-41D3-9DC7-5BAFCF09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3940E-C9BD-4BDA-9EC6-E1A6572D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9378B-478B-4137-AF43-58E7A36F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8284BE-E61D-4820-BFDF-46903840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D0B56-26A3-405C-A73A-A49DE878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3D602-A17B-4D8B-AA21-6699C01F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C9B79-8C77-4134-B47E-6BBE53E7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3C19E-AB28-44CE-96A7-D9C72B5F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7D7EA5-2B26-47AD-87CF-07E3C148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841AA-6ABE-4E96-9453-17FC82CC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743-DC56-4F55-A7C2-C103F194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FBEA-1CEF-4AA1-9E00-724F2D2E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6932CD-C67B-4153-94D5-CB192774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7E053-7228-4D90-BB3E-73CC1E88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86713-BFF7-4E61-B46B-B393D0DC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2E83A-17D2-4D61-834B-BC2F2E4C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627D4-8DFC-458D-8A1F-68586C4C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CA4584-7F2B-42D3-92DA-F5AAAA31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997FF-F335-4639-830B-C4CF4FFF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00AA31-757E-498C-B991-0AFC4E11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CE13C-1226-4922-929B-CA6593D5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6418F-7B49-4FE4-97A1-DAF70F08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03C4-FDCE-49CE-8564-CF9D8D1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F834A-C769-4205-865B-66D2AAE3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EF4E1-8F0A-4864-87F1-54BA0960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0E920-3ACE-4838-8E28-51FB8BA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74E90-1CC8-423C-BB76-F08E4B36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DC1E0-986E-4FA0-8EB0-73A6667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5814E-2AB8-41C1-B14D-BC87525F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E764C-F426-467E-8A08-4C56BABF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C2662-9D79-4B10-83F2-B0BDB780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0604A-DEE3-4E5A-93A4-75E316AA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00E4FD-6740-403A-9900-6E09BABE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7A4A-CB4B-40E1-9AAE-223ABF88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E0418-2C42-453D-BD10-8822D6D4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DC012-AF26-41A3-AE5A-07B5D73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CC7787-782B-4173-99F0-078ACCE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B6E66-BFC0-4F19-AEC3-E6C0E0E8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03494-3A99-4037-A92A-7A29BE46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B1BEB-2D99-470F-8A64-E246BBFA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7CCCA4-3D33-49DB-9242-9C51E15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7FF04-A481-4BD5-A694-1AC63D61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4F460-D2A8-47ED-8E52-25829B8A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CA0A-09E7-4F78-AD54-B4899FC0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3868-EAF0-4FAA-B491-FAFB7548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EA99-11F6-41B9-BC33-DBF37C17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C1E0-5681-4F08-8C3C-4C696693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B45B1-8224-4FF8-ADEA-7CA8D31C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934CB-846D-4147-A455-D67C8CC7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3854-5909-4729-A27A-8BF74B2B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493-77CE-4FC7-9B4B-8E7688EF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A1B9-8F76-489C-8F20-3C7DD265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FD37-4205-40E4-828B-9ED2BF1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5B5C-680C-48DF-888B-AEB5A4BC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1A58B-EBDC-4D03-9E7C-D172C2BF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47C0-D5B4-4534-A483-49DB18DD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3DA2-CE3D-4C5F-8D6B-D7D34857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2DEB-8064-4B64-8C00-7C15F311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8266B-BBEE-41EB-9F83-12ADFC10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E9F69-FF81-4B80-8113-1EE3F43A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B9B2-6DF1-4EAF-87CF-BFAA0ED9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C0D-7755-46CF-A969-5FAE166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7EF05-CE8B-4757-B535-69007128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5F1C-3AA9-4612-A98C-8E94B89A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2588A-C35C-406F-8043-C515A9B6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9DA1-893B-4CBD-835D-43EF2AF4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E9403-1F13-43A4-BF15-D8740F3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C8352-4724-4CDB-8527-CF0C6575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C8B5-1B25-46D3-AE1D-D9FE25A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0F4B3-0313-400F-BABA-30E96F87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636C7-1783-4EBC-8777-F9AD2A81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D491D-BF44-4366-82B7-B404F3CB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7A0-776F-4442-AA71-C43B099C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7CE8-803A-4A09-8A14-73F19BFA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63299-DE4E-4678-9F5C-4D2E56FE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92DA-8164-4819-AB3E-9D812B5D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7E229-5B43-4E8D-B4AE-D8E9F349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35A62-2B2E-44B5-839A-220FB1CE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6F816-4880-42BC-ACFB-E733D91B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5B2FE-9DD5-4B8A-AC8B-8CBDC9F2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F9146-1829-4AC3-9356-FEC96162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6BB5-F5E7-4D6A-8C23-363AE089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07835-A74F-4A65-8192-9A7007FE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74F-6C46-4627-89DF-8754EB84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C645-3857-4395-8B80-4A633CBA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EABED-496E-4217-8CD3-3AC5C391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200BE-0AA5-46E8-A306-2F635BBC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877EA-CE95-483E-8746-6FA4F880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5BC5D-A3B7-4D51-BB6C-3FF2878E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00143-CECB-4440-9B72-F5CDD34B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64783-A562-44C8-A787-B98F60EC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0F96-7D55-45BF-A0DB-EEB278C0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79460-7756-4C12-B95D-6E3A7A4F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554BD-F032-450A-9861-D73F315C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78F-53B1-4B37-A280-F4B7A87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94247-E641-4D9C-AF68-91D1113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6F62F-E0A6-40E0-9930-752A6A58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02C10-7438-48C9-913C-9CB4487E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E978-8298-4FCB-A5B7-3477157F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FDDC8-AAE5-475E-B816-902A5EF2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91A51-9847-4C13-8E83-7F5A49A5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49933-0D49-4925-BBCB-FD7A07DB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779A8-E305-4EBA-894D-C7D56E91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2F7AB-9DCB-400D-9A20-B0F8C475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6F88-1C76-4F4F-9C2F-9492D74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754-72B3-4D2A-A65D-1CE9CD36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DD0AD-E5B4-444E-AA72-004599E5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0D5CB-1192-4E9B-A7C0-6FCD392E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9EBFD-9D4C-4964-BDEF-DA18882D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96891-2ED3-4194-A458-C8A854D3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AF09C-BDCB-4269-8787-E8A7ABE3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443B0-7F7E-4B12-B00D-7E5274D1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35545-13E8-42FF-9211-0812A938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06747-280C-4C83-B430-97936724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17654-4ADB-4C81-B84E-EB534E7F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4DE8C-72C2-4B3F-95D1-3BB6A278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D27-56CA-4549-88E8-BDF03088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5CDD3-A5B6-4B45-9228-3D489AD2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E6A47-1F05-40BC-86DF-1429308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9A4FD-04EF-4DB9-9FFA-990C135D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F69BE-5AA2-4D7F-A512-B820263A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DFF6F-3C26-40F2-8421-047C54BF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1CD57-CAA1-4E79-B447-139C4B9A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0AA35-124D-4600-A1AE-D2E01FE9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7A4E3-9A09-41CB-97DC-7CDB4F8C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25C85-EB24-486E-8377-CFCC0045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2D5B8-4588-492A-894C-153C2608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AB63-8FD6-41B8-9D98-F5FAC352E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87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ECD7-1424-47D0-A79D-B57AC7EF9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2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7E0C-61AD-4B46-B6BA-5E161D79C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8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A168-31D8-41D1-BF21-0C9AD6BD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576D-7808-406C-B2BD-25A2E2E28E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9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EFA9-6C1F-4E49-8CCE-AC756EB2FB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4F34-3008-41A8-89E7-77B21E565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38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40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392B-67A4-4810-BEAA-822BEB0F1D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58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58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9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F6D0-54E8-4FAD-A433-DF6A94C239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7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7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9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dt" idx="5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 type="ftr" idx="5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79D0-4CEF-498D-8BBB-5085FAFD370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7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7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2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2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dt" idx="5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ftr" idx="5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sldNum" idx="5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81B8-AD3D-4A73-AE01-E11DD017ABF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8C01-7EF7-4511-B16C-7022A230B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6852-F2C6-40B9-9D9F-FE894B484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2643-2668-4492-955D-CE7C99584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8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FD9F-4C28-4F7D-8905-C4B4539E33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3FB9-20F8-437E-BCA9-F08D05856D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875E-FFA7-4CE8-8C43-5CC19054D19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4CA7-A609-4F20-9B87-45D295BF471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61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7D3F-7F25-4E9C-BAC4-54D1B6311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aseoner.com/images/2012/10/Unique-Round-Conversation-Pit-Seating-with-Wooden-Floor-and-Fancy-Chandelier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0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Ca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Becca R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3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3248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garaje. El garaje es muy moderno y intel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2" name="" descr=""/>
          <p:cNvPicPr/>
          <p:nvPr/>
        </p:nvPicPr>
        <p:blipFill>
          <a:blip r:embed="rId1"/>
          <a:stretch/>
        </p:blipFill>
        <p:spPr>
          <a:xfrm>
            <a:off x="1752480" y="2670120"/>
            <a:ext cx="60771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a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casa. Es muy grande y magni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6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9339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ocin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Es muy lujosa y fant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9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581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Comedor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comedor. Es muy perfecto y fabulos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92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sala. La sala es muy estupenda y peq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5" name="" descr="Living Room, Comfortable Lounge Conversation And Fancy Sitting Area: Unique Round Conversation Pit Seating With Wooden Floor And Fancy Chandeli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2209680"/>
            <a:ext cx="66150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ñ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. El b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es muy moderno y boni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8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638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uar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cuarto. El cuarto es muy incredíble y bell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1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64008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Pat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patio. El patio fantasía y impresion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4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79096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 un jardin. El jardin es muy bello y boni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07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56236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0:26Z</dcterms:created>
  <dc:creator>rosereb</dc:creator>
  <dc:description/>
  <dc:language>en-US</dc:language>
  <cp:lastModifiedBy>rosereb</cp:lastModifiedBy>
  <dcterms:modified xsi:type="dcterms:W3CDTF">2013-04-04T17:21:06Z</dcterms:modified>
  <cp:revision>11</cp:revision>
  <dc:subject/>
  <dc:title>La Casa</dc:title>
</cp:coreProperties>
</file>